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86886"/>
        <c:axId val="96680256"/>
      </c:barChart>
      <c:catAx>
        <c:axId val="16486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80256"/>
        <c:crosses val="autoZero"/>
        <c:auto val="1"/>
        <c:lblAlgn val="ctr"/>
        <c:lblOffset val="100"/>
        <c:noMultiLvlLbl val="0"/>
      </c:catAx>
      <c:valAx>
        <c:axId val="96680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86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068-4657-4A6A-B906-072FCE12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78C-AD10-4438-BE0B-5AECAAA1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DAE-D7A5-4E2D-9726-8257ED6C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C26-FAA5-4534-ACEC-4A5646B2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D72-18C7-4378-A3D4-DC4C1587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AA8-2606-4DF9-98AD-FB252DC3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69E-85CC-43D9-9411-C0CBDCB4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AD8-768C-4232-8F62-5E26F26E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6B9-533F-4F8C-9FA9-ABBE3EEF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94F-F087-4B06-8F9A-6F1C2599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BCD-8DF9-43F4-835E-1CA02D93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926-2508-45BE-AD41-A6BD405F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5CE55-5A57-42B2-BAB1-25C52B3AC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