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68403"/>
        <c:axId val="60282307"/>
      </c:barChart>
      <c:catAx>
        <c:axId val="51068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82307"/>
        <c:crosses val="autoZero"/>
        <c:auto val="1"/>
        <c:lblAlgn val="ctr"/>
        <c:lblOffset val="100"/>
        <c:noMultiLvlLbl val="0"/>
      </c:catAx>
      <c:valAx>
        <c:axId val="60282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68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847-71D0-4DC8-A3AB-A8BF9702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DFF-7F4B-484B-8634-03122D82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64B-220D-404C-9ABE-0D8631FA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10B-8853-4077-8ED1-9B83F519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FC9-2BA2-4ED2-93AC-DFBA4C5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BE4-4402-4840-8ED5-87DF1D51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314-0ECE-48D5-ADF1-A2C24A91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07D-4F26-4ECA-AB77-B7FE3B06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1CB-D494-4EBC-986E-5F143EF1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8BA-731D-4FAA-BEE7-957885BE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4F5-5AB1-4831-A426-A8B45DE8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ACC-F4F9-4DBF-A19F-D8FC9BA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B331-730A-4E88-92C0-00F376F74D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